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AE196-9101-43DA-AF09-425A65B9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E8D96-626A-4122-8DC8-96DD5880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521CF-6F52-4DD2-AE74-4529D76DC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D1B5C-10EC-472A-9861-BD951F93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DD197-70DE-4502-8EF5-4BE472861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973B-CBCC-458D-9BF3-30FC03C4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F9A76-0902-4593-BFBF-1B1128CD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35841-4A0A-4E59-A4BC-66991D014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BC16C-4A93-4417-8806-1583505F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96141-ED1A-4354-A275-C0E626F0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607D9-16A0-452E-A8FC-73B3B90D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9F9-15CE-4941-B703-A21E9DC1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BD7-A2EE-4858-BA77-1D5FA8C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37A-BEB6-475B-BD5D-0A4B686B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E19-75A6-412A-A6E7-BF730D2D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4F9-7C15-4783-8651-E0305FD5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C12-89E6-42C2-8A0F-A6F116AA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F5F-99B0-454F-A162-6016213F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3BE-4F70-4D11-901E-51F329D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3BC-E9DF-4109-8C75-D34C333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BCA-45F7-440C-9734-E1BE8C9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E20-5588-4CEA-A160-A4DF8A0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DAF-ADB2-43DA-BCD1-08AE633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8A3D4-3E09-476F-94EB-9D260413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What is an atom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63440" y="-334800"/>
            <a:ext cx="9144000" cy="59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different kinds of atoms are called elem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ientists keep track of the elements on a big chart called the periodic 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5513" t="13203" r="0" b="0"/>
          <a:stretch/>
        </p:blipFill>
        <p:spPr>
          <a:xfrm>
            <a:off x="2144880" y="355140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914400" y="914400"/>
            <a:ext cx="84582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Atoms of different elements look and act differen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Atoms of the same element look and act the s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73280" y="4838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497560" y="5684760"/>
            <a:ext cx="171612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6716880" y="3429000"/>
            <a:ext cx="27540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468360" y="503280"/>
            <a:ext cx="89154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everything in the world made of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re hot chips made of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392040" y="579600"/>
            <a:ext cx="85345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hen two or more atoms are stuck together, this forms a 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457200"/>
            <a:ext cx="91440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 What is it called when two atoms comb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 What three smaller things make an at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 What is an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What does the periodic tabl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4320" y="1494000"/>
            <a:ext cx="9064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4000"/>
          </a:bodyPr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pop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85800" y="6858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ever wondered what things in the world are made of???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444024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60440" y="485640"/>
            <a:ext cx="61722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erything in the world is made of things called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 are tiny round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look like thi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"/>
          <p:cNvSpPr/>
          <p:nvPr/>
        </p:nvSpPr>
        <p:spPr>
          <a:xfrm>
            <a:off x="6107040" y="454176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4572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gether, lots of atoms make bigger objec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2168640"/>
            <a:ext cx="2971800" cy="3774960"/>
          </a:xfrm>
          <a:prstGeom prst="rect">
            <a:avLst/>
          </a:prstGeom>
          <a:ln w="0">
            <a:noFill/>
          </a:ln>
        </p:spPr>
      </p:pic>
      <p:sp>
        <p:nvSpPr>
          <p:cNvPr id="61" name="Oval 3"/>
          <p:cNvSpPr/>
          <p:nvPr/>
        </p:nvSpPr>
        <p:spPr>
          <a:xfrm>
            <a:off x="6208560" y="2057400"/>
            <a:ext cx="293544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00600" y="388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4800600" y="2741400"/>
            <a:ext cx="1600200" cy="11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629400" y="2382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7024680" y="21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377040" y="2779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702468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6773760" y="2995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637704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7458120" y="2347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889760" y="21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277040" y="2995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7674120" y="2743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024680" y="3390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767412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7421400" y="36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702468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8105760" y="29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1"/>
          <p:cNvSpPr/>
          <p:nvPr/>
        </p:nvSpPr>
        <p:spPr>
          <a:xfrm>
            <a:off x="8537400" y="2743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22"/>
          <p:cNvSpPr/>
          <p:nvPr/>
        </p:nvSpPr>
        <p:spPr>
          <a:xfrm>
            <a:off x="8145360" y="2478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673740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24"/>
          <p:cNvSpPr/>
          <p:nvPr/>
        </p:nvSpPr>
        <p:spPr>
          <a:xfrm>
            <a:off x="6737400" y="39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7169040" y="3679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6"/>
          <p:cNvSpPr/>
          <p:nvPr/>
        </p:nvSpPr>
        <p:spPr>
          <a:xfrm>
            <a:off x="760104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27"/>
          <p:cNvSpPr/>
          <p:nvPr/>
        </p:nvSpPr>
        <p:spPr>
          <a:xfrm>
            <a:off x="6989760" y="43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738504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29"/>
          <p:cNvSpPr/>
          <p:nvPr/>
        </p:nvSpPr>
        <p:spPr>
          <a:xfrm>
            <a:off x="7385040" y="4543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30"/>
          <p:cNvSpPr/>
          <p:nvPr/>
        </p:nvSpPr>
        <p:spPr>
          <a:xfrm>
            <a:off x="7816680" y="4290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824868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32"/>
          <p:cNvSpPr/>
          <p:nvPr/>
        </p:nvSpPr>
        <p:spPr>
          <a:xfrm>
            <a:off x="7856640" y="38098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3"/>
          <p:cNvSpPr/>
          <p:nvPr/>
        </p:nvSpPr>
        <p:spPr>
          <a:xfrm>
            <a:off x="720576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34"/>
          <p:cNvSpPr/>
          <p:nvPr/>
        </p:nvSpPr>
        <p:spPr>
          <a:xfrm>
            <a:off x="7205760" y="3067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35"/>
          <p:cNvSpPr/>
          <p:nvPr/>
        </p:nvSpPr>
        <p:spPr>
          <a:xfrm>
            <a:off x="7637400" y="2814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36"/>
          <p:cNvSpPr/>
          <p:nvPr/>
        </p:nvSpPr>
        <p:spPr>
          <a:xfrm>
            <a:off x="806940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37"/>
          <p:cNvSpPr/>
          <p:nvPr/>
        </p:nvSpPr>
        <p:spPr>
          <a:xfrm>
            <a:off x="745812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38"/>
          <p:cNvSpPr/>
          <p:nvPr/>
        </p:nvSpPr>
        <p:spPr>
          <a:xfrm>
            <a:off x="785340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9"/>
          <p:cNvSpPr/>
          <p:nvPr/>
        </p:nvSpPr>
        <p:spPr>
          <a:xfrm>
            <a:off x="7853400" y="3679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8285040" y="34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1"/>
          <p:cNvSpPr/>
          <p:nvPr/>
        </p:nvSpPr>
        <p:spPr>
          <a:xfrm>
            <a:off x="871704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2"/>
          <p:cNvSpPr/>
          <p:nvPr/>
        </p:nvSpPr>
        <p:spPr>
          <a:xfrm>
            <a:off x="8325000" y="2946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43"/>
          <p:cNvSpPr/>
          <p:nvPr/>
        </p:nvSpPr>
        <p:spPr>
          <a:xfrm>
            <a:off x="626904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>
            <a:off x="6269040" y="3714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45"/>
          <p:cNvSpPr/>
          <p:nvPr/>
        </p:nvSpPr>
        <p:spPr>
          <a:xfrm>
            <a:off x="670068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46"/>
          <p:cNvSpPr/>
          <p:nvPr/>
        </p:nvSpPr>
        <p:spPr>
          <a:xfrm>
            <a:off x="713268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47"/>
          <p:cNvSpPr/>
          <p:nvPr/>
        </p:nvSpPr>
        <p:spPr>
          <a:xfrm>
            <a:off x="6521400" y="41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691668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6916680" y="43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50"/>
          <p:cNvSpPr/>
          <p:nvPr/>
        </p:nvSpPr>
        <p:spPr>
          <a:xfrm>
            <a:off x="735012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51"/>
          <p:cNvSpPr/>
          <p:nvPr/>
        </p:nvSpPr>
        <p:spPr>
          <a:xfrm>
            <a:off x="778176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52"/>
          <p:cNvSpPr/>
          <p:nvPr/>
        </p:nvSpPr>
        <p:spPr>
          <a:xfrm>
            <a:off x="7388280" y="3594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3"/>
          <p:cNvSpPr/>
          <p:nvPr/>
        </p:nvSpPr>
        <p:spPr>
          <a:xfrm>
            <a:off x="8645400" y="36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54"/>
          <p:cNvSpPr/>
          <p:nvPr/>
        </p:nvSpPr>
        <p:spPr>
          <a:xfrm>
            <a:off x="8325000" y="3343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55"/>
          <p:cNvSpPr/>
          <p:nvPr/>
        </p:nvSpPr>
        <p:spPr>
          <a:xfrm>
            <a:off x="8501040" y="3967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6"/>
          <p:cNvSpPr/>
          <p:nvPr/>
        </p:nvSpPr>
        <p:spPr>
          <a:xfrm>
            <a:off x="8109000" y="37036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8105760" y="43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7713720" y="4135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7816680" y="45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685800" y="685800"/>
            <a:ext cx="91440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oms can combine with each other to form things calle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lecules are just two or more atoms stuck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1143000" y="48006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2286000" y="48006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3886200" y="5029200"/>
            <a:ext cx="1600200" cy="6858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43600" y="5029200"/>
            <a:ext cx="2211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685800"/>
            <a:ext cx="91440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made of ato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When two or more atoms are stuck together, this forms a _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73200" y="5842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f you look inside and atom, you can see that atoms are made up of three par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Prot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Neu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97080" y="4389480"/>
            <a:ext cx="300996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4819680" y="574524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454880" y="5695920"/>
            <a:ext cx="2233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tons 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utr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940280" y="478152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226280" y="4657680"/>
            <a:ext cx="1768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914400" y="685800"/>
            <a:ext cx="6783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all atoms the same??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"/>
          <p:cNvSpPr/>
          <p:nvPr/>
        </p:nvSpPr>
        <p:spPr>
          <a:xfrm>
            <a:off x="685800" y="2286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886200" y="2057400"/>
            <a:ext cx="1600200" cy="1600200"/>
          </a:xfrm>
          <a:prstGeom prst="ellipse">
            <a:avLst/>
          </a:prstGeom>
          <a:solidFill>
            <a:srgbClr val="6b00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514600" y="4114800"/>
            <a:ext cx="457200" cy="457200"/>
          </a:xfrm>
          <a:prstGeom prst="ellipse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407200" y="3886200"/>
            <a:ext cx="2971800" cy="2971800"/>
          </a:xfrm>
          <a:prstGeom prst="ellipse">
            <a:avLst/>
          </a:prstGeom>
          <a:solidFill>
            <a:srgbClr val="ff42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754380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51:51Z</dcterms:created>
  <dc:creator>molly schumer</dc:creator>
  <dc:description/>
  <dc:language>en-US</dc:language>
  <cp:lastModifiedBy>Caroline Roth</cp:lastModifiedBy>
  <dcterms:modified xsi:type="dcterms:W3CDTF">2011-03-21T01:19:59Z</dcterms:modified>
  <cp:revision>7</cp:revision>
  <dc:subject/>
  <dc:title>PowerPoint Presentation</dc:title>
</cp:coreProperties>
</file>